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E36-06C4-49E5-9D2C-1A8D31FE1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CD1-9B5D-4A8C-BFF5-3F9A7AAD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F88-BE25-43C8-B1E8-10516DCA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B32-3564-4CC0-A389-96C0C21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FB9-1DFD-4E99-B0E7-0A289583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B02-9A70-49E1-A7A9-064A30A7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F8D-1835-4960-A5E4-695F0A35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0A3B-11A9-4B2F-9891-5896D35C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CCE-8200-41F0-AEF4-CA23A4A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6DE4-CFC2-40FC-A6DB-94B5EDB0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EA3F-4D1E-4F8D-BB76-83EC6BC9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6C0E-EDA6-4090-A125-CA98D80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A759-396B-4F23-9AA0-5E7D9EA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3AF-4272-4C2B-9F3A-5ED57C4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441-C8E2-4B93-B379-1A20D08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9256-F9C9-443E-8E4E-B05F9D7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34B-01AB-4885-9B89-48CE1D4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85AC-D3D1-41C0-84F4-1D79DF39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6FD4-2CAA-44F3-A63B-E9FA73A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E6FD-6E9A-4591-8123-E8A493CA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DBAF-1093-4384-B4EE-C84EDDE6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BE6E-3F2D-4B6E-9782-9AA9EAA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AD6B-0789-4A30-9D8A-71D249F2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EB9B-CA17-4869-A6A1-9CCEC2CA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14D-4C1F-4E54-8EF7-D25D938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7F3B-B0B8-478C-8AE8-5D0DD78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5D4E-DA0F-41B4-A774-0920357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E27B-237B-46AD-A1AC-31D0893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53BE-BAF1-43C7-AAF3-254EA93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D739-D8AD-4590-85F2-10815D9B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54BC-07DB-46AC-BC2A-4FB9446C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0871-55DF-4B44-A440-F7F1EC96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7703-CF0F-4B75-9497-8C39D5D4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0EF5-0695-477F-AE52-F14DB89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1AE6-6989-4279-8C4F-07DB75A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4D0-B6E7-42AA-A0A2-9E0815BD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B820-E4FE-481A-AB23-B818FAB3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43E4-F82E-4034-9BDE-7AE95A03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3C46-5670-47B1-880B-809AE40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6DE6-E9E0-48A1-A308-151A5E1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1451-7C9D-4872-934A-394125F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6350-2BDF-4B2F-966B-5B05A13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5AEB-9EF4-45D1-B4CE-32461B9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4D28-2870-49DB-B032-35D5ECF4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5109-5FB7-43E6-BB15-F5E9A126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FD9-CCF4-4335-9FAA-4A3276B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25A-701C-452E-9320-4E78A21C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8FA-A36A-41EC-9752-FE54E19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563-B834-441D-A4A7-4151CF4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421-5FC3-428C-9A3D-EFCA115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C024-B7A7-4EB1-AFFD-19E9F6EF30AE}" type="slidenum">
              <a:rPr b="0" lang="zh-CN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A983-A6C2-4ED8-B255-25DE689AD2D6}" type="slidenum">
              <a:rPr b="0" lang="zh-CN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0EC-D0BE-49D5-BF36-63BC5C9DF180}" type="slidenum">
              <a:rPr b="0" lang="zh-CN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4DA-19A9-4CE1-B173-1ACC447D8BFB}" type="slidenum">
              <a:rPr b="0" lang="zh-CN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naw@nlc.gov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2960" y="1428840"/>
            <a:ext cx="72151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015</a:t>
            </a: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年年会报告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成员馆上传数据质量分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国家图书馆全国联合编目中心总审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</a:t>
            </a:r>
            <a:r>
              <a:rPr b="0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万爱雯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隶书"/>
                <a:ea typeface="隶书"/>
                <a:hlinkClick r:id="rId1"/>
              </a:rPr>
              <a:t>wanaw@nlc.gov.c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2015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9-20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字段号、字段指示符以及子字段标识符的使用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电影文学剧本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1949-1959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周恩来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f(1898-1976)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生平事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椭圆 1"/>
          <p:cNvSpPr/>
          <p:nvPr/>
        </p:nvSpPr>
        <p:spPr>
          <a:xfrm>
            <a:off x="971640" y="2997360"/>
            <a:ext cx="43164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7667640" y="2997360"/>
            <a:ext cx="4334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椭圆 4"/>
          <p:cNvSpPr/>
          <p:nvPr/>
        </p:nvSpPr>
        <p:spPr>
          <a:xfrm>
            <a:off x="971640" y="3573360"/>
            <a:ext cx="431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椭圆 2"/>
          <p:cNvSpPr/>
          <p:nvPr/>
        </p:nvSpPr>
        <p:spPr>
          <a:xfrm>
            <a:off x="324000" y="4076640"/>
            <a:ext cx="86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电影文学剧本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1949-1959$j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周恩来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f(1898-1976)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生平事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971640" y="249228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矩形 5"/>
          <p:cNvSpPr/>
          <p:nvPr/>
        </p:nvSpPr>
        <p:spPr>
          <a:xfrm>
            <a:off x="971640" y="3141720"/>
            <a:ext cx="431640" cy="35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圆角矩形 6"/>
          <p:cNvSpPr/>
          <p:nvPr/>
        </p:nvSpPr>
        <p:spPr>
          <a:xfrm>
            <a:off x="7667640" y="2492280"/>
            <a:ext cx="433440" cy="5050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167">
                <a:moveTo>
                  <a:pt x="3600" y="0"/>
                </a:moveTo>
                <a:arcTo wR="3600" hR="3600" stAng="16200000" swAng="-5400000"/>
                <a:lnTo>
                  <a:pt x="0" y="21567"/>
                </a:lnTo>
                <a:arcTo wR="3600" hR="3600" stAng="10800000" swAng="-5400000"/>
                <a:lnTo>
                  <a:pt x="18000" y="2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椭圆 1"/>
          <p:cNvSpPr/>
          <p:nvPr/>
        </p:nvSpPr>
        <p:spPr>
          <a:xfrm>
            <a:off x="324000" y="3645000"/>
            <a:ext cx="647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主题词一般首选并列交叉概念组配，不应与其上位概念组配，不专指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画故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代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画故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代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圆角矩形 1"/>
          <p:cNvSpPr/>
          <p:nvPr/>
        </p:nvSpPr>
        <p:spPr>
          <a:xfrm>
            <a:off x="2340000" y="3284640"/>
            <a:ext cx="14400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主题标引字段缺少必备的主体要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7##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广东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方史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清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j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史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椭圆 2"/>
          <p:cNvSpPr/>
          <p:nvPr/>
        </p:nvSpPr>
        <p:spPr>
          <a:xfrm>
            <a:off x="2268360" y="3284640"/>
            <a:ext cx="43200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椭圆 3"/>
          <p:cNvSpPr/>
          <p:nvPr/>
        </p:nvSpPr>
        <p:spPr>
          <a:xfrm>
            <a:off x="2268360" y="4365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、分类标引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目前使用的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图书馆分类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第五版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9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版次应著录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v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数据分类不够准确、细致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人物传记的类号未按照中国或世界时代表复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小说未按题材进行复分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求仿分、复分都按照分类法的规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里两个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en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有并列题名，未著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未出现责任者，而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出现的责任者，应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说明出处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指示符的问题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缺少责任方式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责任说明的著录形式：国别或朝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责任者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责任方式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117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印版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925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漏著录版次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椭圆 1"/>
          <p:cNvSpPr/>
          <p:nvPr/>
        </p:nvSpPr>
        <p:spPr>
          <a:xfrm>
            <a:off x="3564000" y="1700280"/>
            <a:ext cx="216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椭圆 3"/>
          <p:cNvSpPr/>
          <p:nvPr/>
        </p:nvSpPr>
        <p:spPr>
          <a:xfrm>
            <a:off x="2124000" y="37893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221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大学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.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060206d2006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庆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421a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文史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圆角矩形 1"/>
          <p:cNvSpPr/>
          <p:nvPr/>
        </p:nvSpPr>
        <p:spPr>
          <a:xfrm>
            <a:off x="6084720" y="2205000"/>
            <a:ext cx="12240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椭圆 2"/>
          <p:cNvSpPr/>
          <p:nvPr/>
        </p:nvSpPr>
        <p:spPr>
          <a:xfrm>
            <a:off x="3708360" y="3213000"/>
            <a:ext cx="719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椭圆 3"/>
          <p:cNvSpPr/>
          <p:nvPr/>
        </p:nvSpPr>
        <p:spPr>
          <a:xfrm>
            <a:off x="3564000" y="4941720"/>
            <a:ext cx="21600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504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武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地质大学出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512d^^^^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呼和浩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远方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729e20142006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电力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06$h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矩形 4"/>
          <p:cNvSpPr/>
          <p:nvPr/>
        </p:nvSpPr>
        <p:spPr>
          <a:xfrm>
            <a:off x="3276720" y="2276640"/>
            <a:ext cx="273528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3780000" y="3213000"/>
            <a:ext cx="72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椭圆 6"/>
          <p:cNvSpPr/>
          <p:nvPr/>
        </p:nvSpPr>
        <p:spPr>
          <a:xfrm>
            <a:off x="6804000" y="5229360"/>
            <a:ext cx="108108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、主题标引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主题分析块中的个人名称主题的国别、朝代、民族不在规范检索点形式上用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区分。（主题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库的外国人名的规范检索点形式的国别、朝代、民族不在规范检索点形式上用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区分，而是要求写在注释的内容中，《中分表》和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库都是这样要求的。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600#0$c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德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)$a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ilhelm Friedrich$f17701831)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美学思想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研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600#0$c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战国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)$a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约公元前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339-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278)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人物研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椭圆 1"/>
          <p:cNvSpPr/>
          <p:nvPr/>
        </p:nvSpPr>
        <p:spPr>
          <a:xfrm>
            <a:off x="2340000" y="422100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椭圆 2"/>
          <p:cNvSpPr/>
          <p:nvPr/>
        </p:nvSpPr>
        <p:spPr>
          <a:xfrm>
            <a:off x="2411280" y="5516640"/>
            <a:ext cx="9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1106d20142013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西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陕西人民美术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3$h201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出版地出版者不详的描述形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求描述完整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版地不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版者不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椭圆 3"/>
          <p:cNvSpPr/>
          <p:nvPr/>
        </p:nvSpPr>
        <p:spPr>
          <a:xfrm>
            <a:off x="250920" y="220500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椭圆 7"/>
          <p:cNvSpPr/>
          <p:nvPr/>
        </p:nvSpPr>
        <p:spPr>
          <a:xfrm>
            <a:off x="3924360" y="1052640"/>
            <a:ext cx="1511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六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3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内容提要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3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的错别字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未著录内容提要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套书内容提要完全一致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七、并列题名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遵循外文的书写规则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并列题名外文单词录入错误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题名页以外有外文题名，未著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1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漏著并列题名语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八、关于译著的问题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指标符特别是译著指示符的著录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关于编译的问题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谢  谢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图片 2" descr=""/>
          <p:cNvPicPr/>
          <p:nvPr/>
        </p:nvPicPr>
        <p:blipFill>
          <a:blip r:embed="rId1"/>
          <a:stretch/>
        </p:blipFill>
        <p:spPr>
          <a:xfrm>
            <a:off x="1428840" y="1467000"/>
            <a:ext cx="6286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ehelm$f1770-183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40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78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343160" y="738360"/>
            <a:ext cx="6457680" cy="53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0#0$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40-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78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1090440" y="299880"/>
            <a:ext cx="6963120" cy="625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0#0$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ehelm$f1770-1831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有用代关系的主题词：案例→案例分析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0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烟草工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企业管理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案例分析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河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椭圆 1"/>
          <p:cNvSpPr/>
          <p:nvPr/>
        </p:nvSpPr>
        <p:spPr>
          <a:xfrm>
            <a:off x="5867280" y="2421000"/>
            <a:ext cx="1584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图片 3" descr=""/>
          <p:cNvPicPr/>
          <p:nvPr/>
        </p:nvPicPr>
        <p:blipFill>
          <a:blip r:embed="rId1"/>
          <a:stretch/>
        </p:blipFill>
        <p:spPr>
          <a:xfrm>
            <a:off x="957240" y="747720"/>
            <a:ext cx="7229520" cy="53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3:49:42Z</dcterms:created>
  <dc:creator>handeyin</dc:creator>
  <dc:description/>
  <dc:language>en-US</dc:language>
  <cp:lastModifiedBy>万户网络</cp:lastModifiedBy>
  <dcterms:modified xsi:type="dcterms:W3CDTF">2015-10-10T03:04:42Z</dcterms:modified>
  <cp:revision>4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